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1BE7-6F3C-44A1-8081-6EC37B5325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eal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ing and the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inhaled and exhaled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big differences between inhaled and exhaled ai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you test for the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nother difference…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vap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take a closer look (a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up of as wmv f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 partn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A – explain the process of breathing in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 B – explain the process of breathing out and what gas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repared to share your answers with the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s &amp;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Develop understanding of the structure of the lungs and gas ex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: Explain the process of breathing 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: Describe the difference between inhaled and exhaled air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: Describe how alveoli are adapted for their purpose (6/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on: Describe how damaged alveoli can result in less gas exchange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exchange happe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2 lungs, situated in your upper thorax / ch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breath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pipe/trache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nchioles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veoli 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in we in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a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hen we breathe out we exh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ing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utside of the alveoli is covered with tiny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veo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se alveoli is called the ALVEO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A0A-976E-403D-BA69-6DBD6A939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FD3-2340-4524-89BA-21B9C10A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0B5-E830-4EDE-9A76-9CA0639A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D9D-EB99-411F-B7DC-FE548AC8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4CC4-8876-4180-ADEC-5EB60A83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F93E-39D5-4CB4-BD18-AC62638E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59F6-5D3B-4639-A7C5-FF5CFAB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6B3A-7AD1-4C36-8928-8B9C478D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CCD-5459-45BF-BF8D-6C8247D1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70FDF-F56E-4A08-B5F3-7E6759F7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F99FF-F620-4007-A880-F3F582B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829C-ECEF-4DE5-83B7-36AAD84C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DF2B-232B-45C8-A22A-C8EADBBB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6EA1-4CF4-4D31-BF66-BF2762A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9111-7470-43BD-933D-4E00D71B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F0C3-885B-462B-906B-34177D64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952B-E613-4A78-94CC-FAED1515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618-B41A-419A-9983-9242BB31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58C8-B781-4DD9-A894-53443C57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36C-164F-4D51-9001-4B2769FB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075-9298-481F-912C-E79C924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430-5E60-4448-BAA5-09677009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D1A-9D71-4FEC-AE82-23A3D23B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412-B4A6-4F8B-9C17-AD8A1E1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23C3-9462-4A9E-A616-35411D09D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BC3E8-3C33-4F38-9E1D-D71434F76739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Being Health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eathing and the lu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0" y="0"/>
            <a:ext cx="647712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paring inhaled and exhaled 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7477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are the big differences between inhaled and exhaled ai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could you test for the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457200" y="57150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re is another difference…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4800600" y="5700600"/>
            <a:ext cx="29718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…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er vapou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385560" y="1905120"/>
            <a:ext cx="3500640" cy="3690360"/>
            <a:chOff x="385560" y="1905120"/>
            <a:chExt cx="3500640" cy="3690360"/>
          </a:xfrm>
        </p:grpSpPr>
        <p:sp>
          <p:nvSpPr>
            <p:cNvPr id="267" name="Rectangle 7"/>
            <p:cNvSpPr/>
            <p:nvPr/>
          </p:nvSpPr>
          <p:spPr>
            <a:xfrm>
              <a:off x="465480" y="1905120"/>
              <a:ext cx="163620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In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385560" y="4038480"/>
              <a:ext cx="3262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8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20.7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0.1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66688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97180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36576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2" name="Picture 12" descr="pie chart 1"/>
            <p:cNvPicPr/>
            <p:nvPr/>
          </p:nvPicPr>
          <p:blipFill>
            <a:blip r:embed="rId1"/>
            <a:stretch/>
          </p:blipFill>
          <p:spPr>
            <a:xfrm>
              <a:off x="457200" y="2438280"/>
              <a:ext cx="28954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Rectangle 13"/>
            <p:cNvSpPr/>
            <p:nvPr/>
          </p:nvSpPr>
          <p:spPr>
            <a:xfrm>
              <a:off x="137160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4" name="Group 14"/>
          <p:cNvGrpSpPr/>
          <p:nvPr/>
        </p:nvGrpSpPr>
        <p:grpSpPr>
          <a:xfrm>
            <a:off x="4805640" y="1905120"/>
            <a:ext cx="3195360" cy="3690360"/>
            <a:chOff x="4805640" y="1905120"/>
            <a:chExt cx="3195360" cy="3690360"/>
          </a:xfrm>
        </p:grpSpPr>
        <p:sp>
          <p:nvSpPr>
            <p:cNvPr id="275" name="Rectangle 15"/>
            <p:cNvSpPr/>
            <p:nvPr/>
          </p:nvSpPr>
          <p:spPr>
            <a:xfrm>
              <a:off x="4885560" y="1905120"/>
              <a:ext cx="1736640" cy="4597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Exhaled Ai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805640" y="4038480"/>
              <a:ext cx="3007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Nitrogen (75.5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xygen (14.6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Carbon Dioxide (4%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7315200" y="4191120"/>
              <a:ext cx="228600" cy="15228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7319880" y="4572000"/>
              <a:ext cx="22860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7772400" y="4952880"/>
              <a:ext cx="228600" cy="15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0"/>
            <p:cNvSpPr/>
            <p:nvPr/>
          </p:nvSpPr>
          <p:spPr>
            <a:xfrm>
              <a:off x="5791320" y="5334120"/>
              <a:ext cx="2286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8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1" name="Picture 21" descr="pie chart 2"/>
            <p:cNvPicPr/>
            <p:nvPr/>
          </p:nvPicPr>
          <p:blipFill>
            <a:blip r:embed="rId2"/>
            <a:stretch/>
          </p:blipFill>
          <p:spPr>
            <a:xfrm>
              <a:off x="4876920" y="2438280"/>
              <a:ext cx="2895480" cy="158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ets take a closer look (avi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respiratory systemmp4.AVI" descr=""/>
          <p:cNvPicPr/>
          <p:nvPr/>
        </p:nvPicPr>
        <p:blipFill>
          <a:blip r:embed="rId1"/>
          <a:stretch/>
        </p:blipFill>
        <p:spPr>
          <a:xfrm>
            <a:off x="1042920" y="1644480"/>
            <a:ext cx="6553440" cy="480564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" dur="1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Backup of as wmv fil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7" name="respiratory systemmp4.WMV" descr=""/>
          <p:cNvPicPr/>
          <p:nvPr/>
        </p:nvPicPr>
        <p:blipFill>
          <a:blip r:embed="rId1"/>
          <a:stretch/>
        </p:blipFill>
        <p:spPr>
          <a:xfrm>
            <a:off x="1332000" y="144288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v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lungs and breathing.AVI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" dur="1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m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3" name="lungs and breathing.WMV" descr=""/>
          <p:cNvPicPr/>
          <p:nvPr/>
        </p:nvPicPr>
        <p:blipFill>
          <a:blip r:embed="rId1"/>
          <a:stretch/>
        </p:blipFill>
        <p:spPr>
          <a:xfrm>
            <a:off x="1116000" y="132408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1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th a partn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A – explain the process of breathing in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rtner B – explain the process of breathing out and what gases excha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 prepared to share your answers with the c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ask 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bel diagram of lungs and indicate where oxygen and carbon dioxide exchange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len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bjectives &amp; Outc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bjective: Develop understanding of the structure of the lungs and gas exchan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com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: Explain the process of breathing (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st: Describe the difference between inhaled and exhaled air (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: Describe how alveoli are adapted for their purpose (6/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xtension: Describe how damaged alveoli can result in less gas exchange (7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The Respiratory Syst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s exchange happe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have 2 lungs, situated in your upper thorax / ch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ere, oxygen and carbon dioxide are exchanged – oxygen is needed for life and carbon dioxide is got rid of when we breathe ou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How do we breath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uth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indpipe/trachea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ronchioles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veoli </a:t>
            </a:r>
            <a:r>
              <a:rPr b="0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lungs5c"/>
          <p:cNvPicPr/>
          <p:nvPr/>
        </p:nvPicPr>
        <p:blipFill>
          <a:blip r:embed="rId1"/>
          <a:stretch/>
        </p:blipFill>
        <p:spPr>
          <a:xfrm>
            <a:off x="3924360" y="1341360"/>
            <a:ext cx="4776840" cy="529128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0" y="0"/>
            <a:ext cx="20574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In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2443320" y="380880"/>
            <a:ext cx="4464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in we in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ShockwaveFlash1"/>
          <p:cNvGraphicFramePr/>
          <p:nvPr/>
        </p:nvGraphicFramePr>
        <p:xfrm>
          <a:off x="838080" y="1066680"/>
          <a:ext cx="739008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6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7390080" cy="5486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0"/>
            <a:ext cx="266688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  <a:ea typeface="Times New Roman"/>
              </a:rPr>
              <a:t>Exha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2061000" y="609480"/>
            <a:ext cx="47376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  <a:ea typeface="Times New Roman"/>
              </a:rPr>
              <a:t>(When we breathe out we exha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1" name="ShockwaveFlash1"/>
          <p:cNvGraphicFramePr/>
          <p:nvPr/>
        </p:nvGraphicFramePr>
        <p:xfrm>
          <a:off x="914400" y="1143000"/>
          <a:ext cx="7315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1143000"/>
                    <a:ext cx="7315200" cy="54100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Exchanging gas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5" descr="lungs"/>
          <p:cNvPicPr/>
          <p:nvPr/>
        </p:nvPicPr>
        <p:blipFill>
          <a:blip r:embed="rId1"/>
          <a:stretch/>
        </p:blipFill>
        <p:spPr>
          <a:xfrm>
            <a:off x="179280" y="1484280"/>
            <a:ext cx="4337280" cy="4608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3D_Model_Anat_Alveoli2_web"/>
          <p:cNvPicPr/>
          <p:nvPr/>
        </p:nvPicPr>
        <p:blipFill>
          <a:blip r:embed="rId2"/>
          <a:stretch/>
        </p:blipFill>
        <p:spPr>
          <a:xfrm>
            <a:off x="4500720" y="1484280"/>
            <a:ext cx="4464000" cy="468144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25909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914400" y="580716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outside of the alveoli is covered with tiny blood vesse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066680" y="77796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8ae"/>
                </a:solidFill>
                <a:latin typeface="Arial"/>
              </a:rPr>
              <a:t>Oxygen makes its way into thousands of special air sacs collectively called the ALVEOL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ShockwaveFlash1"/>
          <p:cNvGraphicFramePr/>
          <p:nvPr/>
        </p:nvGraphicFramePr>
        <p:xfrm>
          <a:off x="990720" y="1600200"/>
          <a:ext cx="716256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600200"/>
                    <a:ext cx="7162560" cy="403848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0" y="0"/>
            <a:ext cx="2819520" cy="520560"/>
          </a:xfrm>
          <a:prstGeom prst="rect">
            <a:avLst/>
          </a:prstGeom>
          <a:solidFill>
            <a:srgbClr val="800080"/>
          </a:solidFill>
          <a:ln w="9360">
            <a:solidFill>
              <a:srgbClr val="0068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8ae"/>
                </a:solidFill>
                <a:latin typeface="Arial"/>
              </a:rPr>
              <a:t>The Alveo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3808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e of these alveoli is called the ALVEOLU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where the oxygen is transferred into the blood and carbon dioxide moves out of the bloo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4" descr="flash icon"/>
          <p:cNvPicPr/>
          <p:nvPr/>
        </p:nvPicPr>
        <p:blipFill>
          <a:blip r:embed="rId1"/>
          <a:stretch/>
        </p:blipFill>
        <p:spPr>
          <a:xfrm>
            <a:off x="7315200" y="228600"/>
            <a:ext cx="447840" cy="4572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380880" y="2362320"/>
            <a:ext cx="2438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all these alveoli flattened and spread out onto the floor, they would cover an area the size of a tennis cour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0" name="ShockwaveFlash1"/>
          <p:cNvGraphicFramePr/>
          <p:nvPr/>
        </p:nvGraphicFramePr>
        <p:xfrm>
          <a:off x="2819520" y="1905120"/>
          <a:ext cx="571500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1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9520" y="1905120"/>
                    <a:ext cx="5715000" cy="43434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8:21:04Z</dcterms:created>
  <dc:creator>Tony Blakie</dc:creator>
  <dc:description/>
  <dc:language>en-US</dc:language>
  <cp:lastModifiedBy>LEGION2</cp:lastModifiedBy>
  <dcterms:modified xsi:type="dcterms:W3CDTF">2016-01-13T13:38:47Z</dcterms:modified>
  <cp:revision>8</cp:revision>
  <dc:subject/>
  <dc:title>Being Healthy- Breathing and the lungs</dc:title>
</cp:coreProperties>
</file>